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07763-3546-4BDA-BF8D-727A34C0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92CC2-BF7B-407A-8E9A-A2F07F70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DB3D-2690-4D39-A192-1E42ADD21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B2FC7-3BAF-48F1-AEBF-6E326570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C02C-5CBE-4608-B78F-E60D4569E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8393-838A-40ED-BACC-7F95EFF3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0B05-63C1-46A2-B0EC-AE8B58BB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7580-7025-4C31-A0BB-0055BFBA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B1BC-E9E5-4DB2-BDD4-30D052CF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4F86-15FF-4381-8E40-D5E0FE1E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FCE3-24E8-4786-82D9-C2F548A3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FD4BF-8E69-48A7-9DF4-543ADB4A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D975-720D-40C3-A49E-67DF183F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DFBD-7A13-4E3D-B314-BB4F7BBC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6DE5-8D58-4992-9380-A92B94D1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EA4D-2264-455F-928A-9A1272CB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6977-4EC1-44FD-B491-DB906978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8D1F6-0F20-485B-9427-C3D125C4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1DDA-08A2-46AE-805D-2B59CD53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50B1A-11CD-4F1C-B069-72E71164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FBE72-83DD-4EDE-BBA0-7EB2AFC0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C06A9-E313-4B1C-9C76-DAFB5159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BC2C7-99AA-41CE-B45B-5662762F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42F8C-839E-42D2-A60B-5D77657E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52ED-2616-4829-94D3-CDDF456EAA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D15C-DC14-4C80-986B-8BA07B3CA7B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714680" y="4786200"/>
            <a:ext cx="590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2050920" y="4653000"/>
            <a:ext cx="590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. Исследование режима 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воде информации данные записываются с шин каналов в буферные регистры ППИ без стробирования, а передаются на внутреннюю магистраль микроЭВМ по сигналу RD/. При выводе данные от микроЭВМ записываются в соответствующий регистр ППИ по фронту сигнала WR/ и сразу же выводятся на шину канала. Недостаток режима 0 состоит в том, что при вводе данных из БИС ППИ возможно считывание ложной информации, если в процессе выполнения команды ввода (чтения) происходит изменение данных на входах каналов ППИ. После включения питания и подачи импульса начальной установки (INIT) все каналы ППИ настраиваются на ввод данных в режиме 0. Поэтому при программировании ППИ для вывода данных из микроЭВМ после записи управляющего слова в ППИ возможна выдача случайной информации, записанной в регистр канала ранее или установившейся в нем сразу после включения пит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Установить переключатель SA20 (слева) в положение "РАБ", SA21(справа)- в положение "АВТ"(оба в нижнее положение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авить и выполнить программу в автоматическом режиме согласно следующего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0 (ввод через КB, вывод через КA и КС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ов КA и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в одну из ячеек линейного дисплея «Электроники-580» (адреса 83F8…83FF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Определить состояния выходов канала КС после загрузки управляющего слова для вывода данных через канал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. Исследование режима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енные диаграммы работы каналов КА и КВ в режимах ввода и вывода приведены на рис.4, 5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на ввод данных информация записывается в регистр канала по заднему фронту сигнала STBRC/( стробирующий сигнал приема). Получив данные, ППИ вырабатывает сигнал ACKRC/ (подтверждение приема), сохраняемый до окончания передачи в микроЭВМ по сигналу RD/. Возвращаемый внешнему устройству сигнал ACKRC/ запрещает ему формировать новый сигнал STBRC/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сигнал ACKRC/ и внутренний триггер разрешения прерываний (INTE) канала установлены в "1", то по фронту сигнала STBRC/ на выходе ППИ формируется сигнал запроса прерывания INT, одновременно фиксируемый в слове состояния ППИ. Этот сигнал может быть использован для информирования микроЭВМ о готовности данных к вводу. По сигналу чтения RD/ из микроЭВМ сначала сбрасывается сигнал запроса, а затем сигнал ACKRC/, разрешая внешнему устройству передачу следующего байт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овка - сброс триггеров разрешения прерывания INTE1, INTE2 осуществляется с помощью управляющих слов установки разрядов 4 (INTE1) и 2 (INTE2) канала КС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ris45_55.bmp (1021734 bytes)"/>
          <p:cNvPicPr/>
          <p:nvPr/>
        </p:nvPicPr>
        <p:blipFill>
          <a:blip r:embed="rId1"/>
          <a:stretch/>
        </p:blipFill>
        <p:spPr>
          <a:xfrm>
            <a:off x="1476360" y="620640"/>
            <a:ext cx="5834160" cy="6048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11280" y="738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яды 6, 7 канала КС могут быть использованы как для ввода, так и для вывода. Если они запрограммированы для ввода, то чтение информации на этих входах производится с помощью операции чтения из канала КС. Если они запрограммированы для вывода, то их можно использовать только путем установки или сброса разрядов 6, 7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ов КА и КВ в режиме вывода данные в выходной регистр канала записываются по сигналу WR/. В момент окончания записи ППИ формирует управляющий сигнал STBWR/ (строб записи), указывающий на то, что данные на выходе ППИ установлены и могут быть считаны внешним устройством. Прием данных ВУ подтверждается сигналом ACKWR/ (подтверждение записи). Для информирования микроЭВМ о завершении цикла передачи и готовности канала к получению новых данных может быть использован сигнал INT, который устанавливается в "1" при высоких уровнях сигналов STBWR/, ACKWR/ и единичном состоянии триггера разрешения прерывания INTE. На интервале вывода данных в ВУ этот сигнал остается на низком уровне. Установка и сброс триггеров разрешения прерывания INTE0, INTE2 каналов производится путем программирования разрядов 6 и 2 канала КС. Разряды 4 и 5 КС могут быть использованы для синхронного ввода/вы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ПИ запрограммирован для работы в режимах 1 или 2, то состояние обмена можно определить программным путем при чтении содержимого регистра канала КС. Форматы слова состояния для режима 1 приведены на рис.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ris6_55.gif (5749 bytes)"/>
          <p:cNvPicPr/>
          <p:nvPr/>
        </p:nvPicPr>
        <p:blipFill>
          <a:blip r:embed="rId1"/>
          <a:stretch/>
        </p:blipFill>
        <p:spPr>
          <a:xfrm>
            <a:off x="684360" y="549360"/>
            <a:ext cx="7561080" cy="309384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3833640"/>
            <a:ext cx="8496360" cy="28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одуле УМПК-80/МИ2 при выводе информации через разряды канала КС переключатель SA20 необходимо перевести в положение "БЛК". Для формирования входной информации в разряде КС4 можно использовать кнопку STBRC/ (SA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Установить переключатель SA20 в положение "РАБ", SA21 в положение "АВТ". Выполнить циклическую программу стробируемого ввода данных по каналу КВ и вывода данных в канал КА. Для имитации сигналов ВУ использовать кнопки SA1 (STBRC/ и ACKWR/ канала КВ), SA2 (STBRC/ канала КА) и SA3 (ACKWR/ канала КА). В качестве флагов готовности можно использовать разряды 1, 5 (при вводе) и разряды 1, 7 (при выводе) слова состояния ППИ. Перед началом цикла обмена инициализировать работу каналов КА и КВ для работы в режиме 1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на режим 1 (ввод через КВ, вывод через КА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( по сигналу STBRC/ от кнопки SA1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( по сигналу ACKWR/ от кнопки SA3).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из РОН В в аккумулято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данных на индикаторы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ход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Исследовать временные диаграммы обмена по каналу КА в динамике с помощью осциллографа, имитируя сигналы внешнего устройства с помощью выходных сигналов канала КВ ( рис. 7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ris7_55"/>
          <p:cNvPicPr/>
          <p:nvPr/>
        </p:nvPicPr>
        <p:blipFill>
          <a:blip r:embed="rId1"/>
          <a:stretch/>
        </p:blipFill>
        <p:spPr>
          <a:xfrm>
            <a:off x="971640" y="1125360"/>
            <a:ext cx="6696000" cy="4464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исследования диаграмм в режиме ввода выполнить программ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CW ; Запись управляющего сло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SET1: MVI A, SET ; Установка триггера INTE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RGC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MVI A,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 ; Формирование сигнала STB RC/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C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OUT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IN 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7d"/>
                </a:solidFill>
                <a:latin typeface="Arial"/>
              </a:rPr>
              <a:t>JMP SET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стоятельно подготовить программу для исследования временных диаграмм ППИ в режиме вывода. Выполнить программу на стенде. Снять осциллограммы сигналов цикла ввода и цикла вывода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Выполнить программы, обеспечив ввод (вывод) в режиме 1 по одному из каналов КА или КВ, одновременно используя один из разрядов канала КС для синхронного обмена. При выводе информации через разряды канала КС перевести переключатель SA20 в положение "БЛК"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2 используется для двунаправленного асинхронного обмена информацией по каналу КА. Сигналы управления (рис. 8), передаваемые по пяти линиям канала КС, представляют собой комбинацию сигналов, используемых при работе канала КА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ris8_55"/>
          <p:cNvPicPr/>
          <p:nvPr/>
        </p:nvPicPr>
        <p:blipFill>
          <a:blip r:embed="rId1"/>
          <a:srcRect l="10029" t="5868" r="5505" b="13915"/>
          <a:stretch/>
        </p:blipFill>
        <p:spPr>
          <a:xfrm>
            <a:off x="1332000" y="1700280"/>
            <a:ext cx="6049800" cy="4983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м отличием режима 2 от режима 1 является то, что информация, записанная в регистр канала КА для вывода, появляется на его выходах не сразу, а после выдачи внешним устройством сигнала ACKWR/. До этого момента выходы канала КА находятся в состоянии высокого импеданса. Временные диаграммы обмена в режиме 2 эквивалентны временным диаграммам обмена в режиме 1 и допускают любую последовательность передачи данных, при которой сигнал WR/ появляется раньше сигнала ACKWR/, а сигнал STBRC/ раньше сигнала RD/. Установка-сброс триггеров разрешения прерывания INTE0, INTE1 осуществляется путем программной установки разрядов 6 (вывод) и 4 (ввод) канала К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нал КВ может использоваться при работе канала КА в режиме 2 как для синхронного (режим 0), так и для асинхронного (режим 1) ввода-вывода. Формат слова состояния для режима 2 приведен на рис. 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ris9_55bmp.bmp (316458 bytes)"/>
          <p:cNvPicPr/>
          <p:nvPr/>
        </p:nvPicPr>
        <p:blipFill>
          <a:blip r:embed="rId1"/>
          <a:stretch/>
        </p:blipFill>
        <p:spPr>
          <a:xfrm>
            <a:off x="755640" y="4076640"/>
            <a:ext cx="7777080" cy="2578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191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700360" y="19890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905760" y="764640"/>
            <a:ext cx="69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НИЕ ПРОГРАММИРУЕМОГО ПАРАЛЛ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ФЕЙ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278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ель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воение принципов программного управления БИС программируемого параллельного интерфейса (ППИ) с помощью микроЭВ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ние протоколов обмена между ППИ и микроЭВМ по внутренней магистрали, между ППИ и ВУ по внешней магистрали в различных режимах обмена (синхронном, асинхронном, однонаправленном, двунаправленном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аботе канала КА в режиме 2 и канала КВ в режиме 0 можно использовать незадействованные под управляющие сигналы разряды КС0-2 для ввода-вывода информации. Убедиться в этом можно, используя в качестве формирователя входной информации разряда КС2 кнопку SA1 сигнала STBRC/.В (при вводе информации) или устанавливая/сбрасывая разряды КС0-2 (при выводе информаци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6. Составить программу для стробируемого ввода данных по каналу КА и КВ и последующего вывода данных в канал КА, используя режим 2 канала КА и режим 1 канала КВ. Исследовать влияние управляющих сигналов STBRC/.A и ACKWR/.A, ( а также триггеров INTE0 и INTE1) на работу канала КА в режиме 2, а также влияние сигнала STBRC/.B (и триггера INTE2) на работу канала КВ в режиме 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исание алгорит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ициализация ВВ55 канала КВ на ввод в режиме 1, канала КА на режим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воду ( по сигналу STBRC/ от кнопки SA2). Если флаг равен 0, переход на п.2, иначе на п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ылка данных в РОН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В по вводу ( по сигналу STBRC/ от кнопки SA1). Если флаг равен 0, переход на п.6, иначе на п.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вод данных с наборного поля канала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отка данных, полученных через каналы КА и К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вод результата совместной обработки через канал 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ение слова состояния (S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верка флага готовности канала КА по выводу ( по сигналу ACKWR/ от кнопки SA3). Если флаг равен 0, переход на п.11, иначе на п.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чание. Проверка флагов готовности может быть заменена проверкой запросов прерываний при разрешении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7. Изменить программу п.6, осуществив работу канала КА в режиме 2 совместно с работой канала KB в режиме 0 и обменом по линиям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8. Оформить отч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чет должен содержать схемы связи ППИ с внутренней и внешней магистралями, тексты отлаженных программ на языке ассемблера и в 16-ичных кодах, отметки действий оператора в соответствующих точках программы, необходимые при воспроизведении того или иного режима работы, осциллограммы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терату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Техническое описание УМПК - 8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2184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вед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опряжения микроЭВМ с различными типами внешних устройств широко применяется программируемое устройство параллельного ввода/вывода данных - микросхема программируемый параллельный интерфейс КР580ВВ55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ная схема ППИ приведена на рис. 1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611280" y="6165720"/>
            <a:ext cx="518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1" descr="ris1_55"/>
          <p:cNvPicPr/>
          <p:nvPr/>
        </p:nvPicPr>
        <p:blipFill>
          <a:blip r:embed="rId1"/>
          <a:stretch/>
        </p:blipFill>
        <p:spPr>
          <a:xfrm>
            <a:off x="971640" y="2200320"/>
            <a:ext cx="7956360" cy="4657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ПИ содержит 8-разрядный буфер шины данных (БФД) для обмена данными через магистраль микроЭВМ, три 8-разрядных канала (буферных регистра) КА, КВ и КС для связи с внешними устройствами и схему управления с регистром управления (РгУ)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ходные сигналы управления: CS/ (выбор микросхемы), RD/ (чтение), WR/ (запись), а также сигналы A0, A1, определяющие адрес (номер) канала ввода-вывода или регистра управления, - устанавливают направление обмена данными между микроЭВМ и одним из регистров ППИ. В табл.1 приведены основные операции ППИ в зависимости от значений управляющих и адресных сигналов на вход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86" descr="tab1_55.gif (4734 bytes)"/>
          <p:cNvPicPr/>
          <p:nvPr/>
        </p:nvPicPr>
        <p:blipFill>
          <a:blip r:embed="rId1"/>
          <a:stretch/>
        </p:blipFill>
        <p:spPr>
          <a:xfrm>
            <a:off x="2268360" y="3860640"/>
            <a:ext cx="4896000" cy="276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87"/>
          <p:cNvSpPr/>
          <p:nvPr/>
        </p:nvSpPr>
        <p:spPr>
          <a:xfrm>
            <a:off x="2268360" y="349992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бл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установки режима работы ППИ обмен данными с каналами ввода-вывода может быть осуществлен по командам ввода (IN port N) и вывода (OUT port 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установки режима работы ППИ необходимо послать в регистр управления управляющее слово, обеспечив настройку каналов на тот или иной режим работы. Формат управляющего слова режима приведен на рис.2, 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ы работы каналов КА и КВ программируются независимо друг от друга. Режим работы канала КС, который разделен на два 4-разрядных канала КС0-3 и КС4-7, зависит от режимов работы каналов КВ и КА соответственно. ППИ позволяет осуществить три режима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нхронный обмен по двум независимым каналам КА и КВ, а также по двум 4-разрядным каналам КС0-3 и КС4-7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тробируемый ввод/вывод, обеспечивая асинхронный однонаправленный обмен по 2-м независимым каналам КА и КВ. Линии канала КС используются для управления передачей дан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7d"/>
                </a:solidFill>
                <a:uFillTx/>
                <a:latin typeface="Arial"/>
              </a:rPr>
              <a:t>режим 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асинхронный двунаправленный обмен через канал КА под управлением сигналов канала КС. Канал КВ может быть использован для асинхронного однонаправленного ввода/вы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ополнение к перечисленным режимам работы БИС ППИ обеспечивает возможность программной независимой установки или сброса любого разряда канала С. Формат управляющего слова для установки/сброса разрядов КС показан на рис. 2,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8" descr="ris2_55.bmp (800174 bytes)"/>
          <p:cNvPicPr/>
          <p:nvPr/>
        </p:nvPicPr>
        <p:blipFill>
          <a:blip r:embed="rId1"/>
          <a:stretch/>
        </p:blipFill>
        <p:spPr>
          <a:xfrm>
            <a:off x="755640" y="333360"/>
            <a:ext cx="6985080" cy="60865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исание модуля параллельного интерфей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дуль представляет собой печатную плату, один из внешних разъемов которой предназначен для связи с микроЭВМ, а второй для подключения внешних устройств. Разъем для подключения модуля к внутренней магистрали микроЭВМ содержит восемь линий данных, восемь адресных линий (младший байт адреса), три сигнала управления передачей данных (IORC/ - сигнал чтения из внешнего устройства, IOWC/ - сигнал записи во внешнее устройство и IOEN/- сигнал разрешения ввода/вывода), сигнал начальной установки INIT, а также линии ОБЩ и +5В. На разъем, предназначенный для подключения внешних устройств, выведены линии каналов КА, КВ и КС ППИ, а также сигнал внешней синхронизации осциллографа, необходимый для наблюдения временных диаграм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енная принципиальная схема модуля представлена в приложен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м элементом схемы является БИС (ППИ, D2), непосредственно реализующая функции параллельного интерфейс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дешифрации адреса (ДША, D1) выдает сигналы выборки низкого уровня на следующие элементы схе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БИС ППИ при обращении микроЭВМ к внешнему устройству с адресами В0Н...В3Н. При этом адреса каналов КА, КВ, КС и регистра управляющего слова - В0, В1, В2 и В3 соответственно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состояния внутренних триггеров разрешения прерывания при чтении из канала КС по адресу В2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егистр индикации управляющего слова при записи в регистр управления ППИ по адресу В3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755640" y="3311640"/>
            <a:ext cx="67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4358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состояния внутренних триггеров разрешения прерывания (СИСТ, D3, Е1) позволяет отображать с помощью светодиодов информацию о том, установлены или сброшены триггеры разрешения прерывания каналов КА и КВ. Информация о состоянии триггеров записывается в регистр при чтении из канала К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хема индикации управляющего слова (СИУС, D4, E2) позволяет в любой момент времени видеть, в каком режиме работает БИС ППИ. Информация записывается в регистр при записи управляющего слова в ПП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А (БФА, ИКА и НПА, D6, D10, SA4...SA11, E4) позволяют отображать информацию, записанную в канал КА, а также осуществлять ввод через канал КА информации, задаваемой с помощью переключателей SA4...SA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, схема индикации и наборное поле канала КС (БФС, ИКС и НПС, D7, D8, E3, SA1...SA3) предназначены соответственно для отображения информации, записанной в канал КС, и для имитации управляющих сигналов внешнего устройст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борное поле и буфер канала КВ (НПВ и БФВ, D5, D9, SA12...SA19) позволяют задавать входную информацию для считывания через канал КВ и программно имитировать управляющие сигналы внешнего устройства. Буфер открывается для ввода информации с наборного поля при наличии "1" во втором разряде управляющего слова, то есть когда канал КВ программируется для ввода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755640" y="336708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39640" y="5493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положение переключателей, кнопок и элементов индикации приведено на рис.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ris3_55"/>
          <p:cNvPicPr/>
          <p:nvPr/>
        </p:nvPicPr>
        <p:blipFill>
          <a:blip r:embed="rId1"/>
          <a:stretch/>
        </p:blipFill>
        <p:spPr>
          <a:xfrm>
            <a:off x="2050920" y="981000"/>
            <a:ext cx="4880160" cy="5877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35Z</dcterms:modified>
  <cp:revision>28</cp:revision>
  <dc:subject/>
  <dc:title>Микропроцессорные системы</dc:title>
</cp:coreProperties>
</file>